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3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55240" y="704880"/>
            <a:ext cx="4699080" cy="35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0200" y="4463640"/>
            <a:ext cx="5610240" cy="4227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8924760"/>
            <a:ext cx="3038400" cy="470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970440" y="8924760"/>
            <a:ext cx="3038400" cy="470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A7FDE-CDA2-4373-839A-F73F39419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0200" y="4463640"/>
            <a:ext cx="5610240" cy="4227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orum leverages deep domain expertise to deliver business consulting, business process solutions and information technology to the oil and gas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ver 10 years, we've helped our clients build or maintain leadership positions in their mar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 demonstrated track record of helping our clients solve complex business problems, improve their operating efficiency, deliver higher quality services and build their competitive 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EB2-C4A0-4651-BF57-4C90CA29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54880"/>
            <a:ext cx="792504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869-1D38-424D-AC30-535F19D5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6712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1371240"/>
            <a:ext cx="386712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54880"/>
            <a:ext cx="386712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280" y="3854880"/>
            <a:ext cx="386712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9FF-3F78-4452-95B0-C8EB9021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5168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8960" y="1371240"/>
            <a:ext cx="255168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8800" y="1371240"/>
            <a:ext cx="255168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54880"/>
            <a:ext cx="255168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8960" y="3854880"/>
            <a:ext cx="255168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8800" y="3854880"/>
            <a:ext cx="255168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AC9-D15A-497A-8DDB-6EDBC3A3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92504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67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371240"/>
            <a:ext cx="3867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47560" y="75960"/>
            <a:ext cx="7086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6712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371240"/>
            <a:ext cx="3867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854880"/>
            <a:ext cx="386712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92504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B72-E0C1-4724-A4A2-D9302308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67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371240"/>
            <a:ext cx="386712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854880"/>
            <a:ext cx="386712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6712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371240"/>
            <a:ext cx="386712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854880"/>
            <a:ext cx="792504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854880"/>
            <a:ext cx="792504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6712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371240"/>
            <a:ext cx="386712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854880"/>
            <a:ext cx="386712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854880"/>
            <a:ext cx="386712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5168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371240"/>
            <a:ext cx="255168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371240"/>
            <a:ext cx="255168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854880"/>
            <a:ext cx="255168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854880"/>
            <a:ext cx="255168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854880"/>
            <a:ext cx="255168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F62-FABF-4EEA-BF99-E68A7C7C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67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371240"/>
            <a:ext cx="3867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C80-3B49-49C0-A6FC-C2B662F0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18C-452C-4A62-A565-E5A168E1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560" y="75960"/>
            <a:ext cx="7086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67C-B3C8-4F7E-A97B-5B107983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6712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371240"/>
            <a:ext cx="3867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54880"/>
            <a:ext cx="386712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4AC-561A-423D-B3D6-58C39F97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67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371240"/>
            <a:ext cx="386712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280" y="3854880"/>
            <a:ext cx="386712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241-708C-44B2-B7FB-04DE7CBB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6712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371240"/>
            <a:ext cx="386712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54880"/>
            <a:ext cx="7925040" cy="22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B8A-041C-40C9-BA82-85196525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5213160" y="6564240"/>
            <a:ext cx="1415880" cy="152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2185560" y="6248160"/>
            <a:ext cx="2179800" cy="152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151920" y="6553080"/>
            <a:ext cx="654120" cy="152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57FA523-6326-4027-A2F9-805FC5F32F67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676520" y="1422360"/>
            <a:ext cx="670536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09480" y="1371240"/>
            <a:ext cx="7925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23920">
              <a:spcBef>
                <a:spcPts val="700"/>
              </a:spcBef>
              <a:buClr>
                <a:srgbClr val="0099cc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233640">
              <a:spcBef>
                <a:spcPts val="700"/>
              </a:spcBef>
              <a:buClr>
                <a:srgbClr val="0099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4200" indent="-223920">
              <a:spcBef>
                <a:spcPts val="700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4200" indent="-223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4200" indent="-2239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7520" y="2438280"/>
            <a:ext cx="8075520" cy="14702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54000" algn="ctr">
              <a:spcBef>
                <a:spcPts val="499"/>
              </a:spcBef>
              <a:buClr>
                <a:srgbClr val="0099cc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53640" algn="ctr">
              <a:spcBef>
                <a:spcPts val="400"/>
              </a:spcBef>
              <a:buClr>
                <a:srgbClr val="0099cc"/>
              </a:buClr>
              <a:buFont typeface="Arial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58680" algn="ctr">
              <a:spcBef>
                <a:spcPts val="300"/>
              </a:spcBef>
              <a:buClr>
                <a:srgbClr val="0099cc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586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586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qbsol.com/" TargetMode="External"/><Relationship Id="rId2" Type="http://schemas.openxmlformats.org/officeDocument/2006/relationships/hyperlink" Target="mailto:eric_hazeldine@qbsol.com" TargetMode="External"/><Relationship Id="rId3" Type="http://schemas.openxmlformats.org/officeDocument/2006/relationships/hyperlink" Target="mailto:cameron_smith@qbsol.com" TargetMode="External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rot="10800000">
            <a:off x="7086240" y="624816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0" y="152280"/>
            <a:ext cx="4413240" cy="4419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52800" y="361800"/>
            <a:ext cx="4819680" cy="481968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133720" y="336600"/>
            <a:ext cx="4870440" cy="4876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806560" y="5410080"/>
            <a:ext cx="3517920" cy="793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HOUSTON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DALLAS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CALG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978-EFCE-466E-A3CD-6273FBCEA6F2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nth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ounting requirements of CO&amp;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to Own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23920">
              <a:spcBef>
                <a:spcPts val="451"/>
              </a:spcBef>
              <a:buClr>
                <a:srgbClr val="0099cc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ss Usage F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o Owners Revenue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23920">
              <a:spcBef>
                <a:spcPts val="451"/>
              </a:spcBef>
              <a:buClr>
                <a:srgbClr val="0099cc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 Processing Fees (a.k.a. Facility Char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23920">
              <a:spcBef>
                <a:spcPts val="451"/>
              </a:spcBef>
              <a:buClr>
                <a:srgbClr val="0099cc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ss Usage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methods to compute fees &amp; distribute 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23920">
              <a:spcBef>
                <a:spcPts val="451"/>
              </a:spcBef>
              <a:buClr>
                <a:srgbClr val="0099cc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I%, Throughput Volume, Surplus Volume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Industry’s Needs and Challenges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8F0-6808-4B4A-8356-2764CA459A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Industry’s Needs and Challenges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n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ounting requirements of CO&amp;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actual Operating Cost fe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23920">
              <a:spcBef>
                <a:spcPts val="451"/>
              </a:spcBef>
              <a:buClr>
                <a:srgbClr val="0099cc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ctual operating expenses) ÷ (throughput volu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nth Adjustment of Custom Processing F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istribute to Owners Revenue from Adjusted F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lize Actual Operating Expenses Among Ow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0E4-808A-4D45-965F-B7865DFD3B3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Industry’s Needs and Challenges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&amp;O Accounting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ched from primary accoun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239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ght integration w/ Production Accounting is 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239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unable to amend fees after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nth Ad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in spreadsh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239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effort int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239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s and auditability la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nce on one or two Subject Matter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calability for growth and acqui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3E9-18CC-4C9A-871F-434D93FA75A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ur Approach to Developing a Solu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D40E-0207-420F-85F5-31F2C42E556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920" y="759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ur Approach to Developing a Solu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ddition to TIPS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Intelligent Pla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TIPS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2392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 Accounting (Allocation, Registry Repor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2392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 (Product Valuation, Fees, and Tax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2392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nd Development w/ a consortium of 3 cl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Gas, Keyera, and Pen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design is a superset of thei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implementation has added additional capabilities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C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mma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ed and Developed for rea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845C-3D8C-44B7-AD93-D5BB1C85571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&amp;O Accounting Capabilitie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0E0-5759-4456-95D5-E8DC9AC013A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&amp;O Accounting Capabiliti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Unit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2392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2392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2392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s &amp; Receipt Points Beh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2392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Identifica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Unit Ownership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2392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ss Usage F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2392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 and Revenu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2392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(s) to determine Owners’ share of Expenses and Reven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 of Functional Unit Throughput Volu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 of Fees Cha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 of Expenses Incu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1FE-9585-44E4-A325-B75554A2C21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&amp;O Accounting Capabiliti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CO&amp;O Owner Ac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nth Adjustment and Annual Equa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 run by Functional Unit or Group of Functional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samples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 Ownership Summary (Month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lization Summary (An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reports avail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nth Adjustment Invoice to Custom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Equalization Invoice to Plant / Functional Unit Own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F04-55BA-4EB0-B3A0-1565A0F767D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lementation Considerations and Option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5B0-B651-441C-A79D-9CD17EEFC02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plementation Considerations and Op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accounting functions for plant / facility oper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experience implementing several combinations of these functions onto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2 only (integrated w/ another PA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1,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1, #2, #3, 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2, #3, #4 (integrated w/ another PA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3, #4 (integrated w/ other PA and Fee syst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85120" y="1913040"/>
            <a:ext cx="1688760" cy="1295280"/>
          </a:xfrm>
          <a:prstGeom prst="roundRect">
            <a:avLst>
              <a:gd name="adj" fmla="val 16667"/>
            </a:avLst>
          </a:prstGeom>
          <a:solidFill>
            <a:srgbClr val="33cc33">
              <a:alpha val="50000"/>
            </a:srgbClr>
          </a:solidFill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62440" y="1913040"/>
            <a:ext cx="1676520" cy="1295280"/>
          </a:xfrm>
          <a:prstGeom prst="roundRect">
            <a:avLst>
              <a:gd name="adj" fmla="val 16667"/>
            </a:avLst>
          </a:prstGeom>
          <a:solidFill>
            <a:srgbClr val="33cc33">
              <a:alpha val="50000"/>
            </a:srgbClr>
          </a:solidFill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33640" y="1913040"/>
            <a:ext cx="1676520" cy="1295280"/>
          </a:xfrm>
          <a:prstGeom prst="roundRect">
            <a:avLst>
              <a:gd name="adj" fmla="val 16667"/>
            </a:avLst>
          </a:prstGeom>
          <a:solidFill>
            <a:srgbClr val="33cc33">
              <a:alpha val="50000"/>
            </a:srgbClr>
          </a:solidFill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1913040"/>
            <a:ext cx="1676520" cy="1295280"/>
          </a:xfrm>
          <a:prstGeom prst="roundRect">
            <a:avLst>
              <a:gd name="adj" fmla="val 16667"/>
            </a:avLst>
          </a:prstGeom>
          <a:solidFill>
            <a:srgbClr val="33cc33">
              <a:alpha val="50000"/>
            </a:srgbClr>
          </a:solidFill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190512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s &amp; Registry Reporting (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1905120"/>
            <a:ext cx="175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 Processing Fees &amp; Invoi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24280" y="220968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CO&amp;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205740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nth Adj. &amp; Annual Eq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C89-B1BF-4D17-B7B1-458D9A48A5D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229520" y="990720"/>
            <a:ext cx="17622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nual Joint Conference </a:t>
            </a:r>
            <a:br>
              <a:rPr sz="28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ic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truction Ownership and Operation (CO&amp;O) Software Technology Brief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48002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 12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229520" y="76320"/>
            <a:ext cx="176220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nefit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C87C-3E79-4674-AF02-BE2508ECD64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enefi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ntrols and aud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reporting and receiv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guish yourself among your p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scale with growth and acqui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your accountants the right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a quality job more effici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 constraints and head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33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the capability of revising fees after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EC8-BA66-4086-8597-57E7AAE753D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Quorum Contacts</a:t>
            </a:r>
            <a:br>
              <a:rPr sz="3200"/>
            </a:br>
            <a:br>
              <a:rPr sz="3200"/>
            </a:br>
            <a:r>
              <a:rPr b="1" lang="en-US" sz="3000" spc="-1" strike="noStrike" u="sng">
                <a:solidFill>
                  <a:srgbClr val="33cc33"/>
                </a:solidFill>
                <a:uFillTx/>
                <a:latin typeface="Tahoma"/>
                <a:hlinkClick r:id="rId1"/>
              </a:rPr>
              <a:t>www.qbsol.com</a:t>
            </a:r>
            <a:br>
              <a:rPr sz="3000"/>
            </a:br>
            <a:br>
              <a:rPr sz="30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ic Hazeldine, Vice President – Quorum Canada 403-806-2568  </a:t>
            </a:r>
            <a:r>
              <a:rPr b="1" lang="en-US" sz="2400" spc="-1" strike="noStrike" u="sng">
                <a:solidFill>
                  <a:srgbClr val="33cc33"/>
                </a:solidFill>
                <a:uFillTx/>
                <a:latin typeface="Tahoma"/>
                <a:hlinkClick r:id="rId2"/>
              </a:rPr>
              <a:t>eric_hazeldine@qbsol.com</a:t>
            </a:r>
            <a:r>
              <a:rPr b="1" lang="en-US" sz="2400" spc="-1" strike="noStrike" u="sng">
                <a:solidFill>
                  <a:srgbClr val="33cc33"/>
                </a:solidFill>
                <a:uFillTx/>
                <a:latin typeface="Tahoma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m Smith, Director Sal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3-806-2559  </a:t>
            </a:r>
            <a:r>
              <a:rPr b="1" lang="en-US" sz="2400" spc="-1" strike="noStrike" u="sng">
                <a:solidFill>
                  <a:srgbClr val="33cc33"/>
                </a:solidFill>
                <a:uFillTx/>
                <a:latin typeface="Tahoma"/>
                <a:hlinkClick r:id="rId3"/>
              </a:rPr>
              <a:t>cameron_smith@qbsol.com</a:t>
            </a:r>
            <a:r>
              <a:rPr b="1" lang="en-US" sz="2400" spc="-1" strike="noStrike" u="sng">
                <a:solidFill>
                  <a:srgbClr val="66ff99"/>
                </a:solidFill>
                <a:uFillTx/>
                <a:latin typeface="Tahoma"/>
              </a:rPr>
              <a:t>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517680" y="5297400"/>
            <a:ext cx="306360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360" y="545004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25780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ease stop by our booth to discuss a specific scenario and/or a proof of concept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51055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30B1-B2C4-4CBE-81B6-F9495FD0423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 rot="10800000">
            <a:off x="7086240" y="624816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286000" y="152280"/>
            <a:ext cx="4413240" cy="4419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152800" y="361800"/>
            <a:ext cx="4819680" cy="481968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133720" y="336600"/>
            <a:ext cx="4870440" cy="4876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2806560" y="5410080"/>
            <a:ext cx="3517920" cy="793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HOUSTON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DALLAS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CALG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2514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Century Gothic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88F-18A5-4817-8CDC-B6307A7A3F65}" type="slidenum">
              <a:t>23</a:t>
            </a:fld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391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295280"/>
            <a:ext cx="8077320" cy="38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ef Quorum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 Needs and Challe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r Approach to Developing a 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&amp;O Accounting Capab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ementation Considerations and 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C0E-6F14-42F9-B994-60F29C1C5A8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Quorum Overview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DDE-9440-4D45-B98A-C193521CDB2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Quorum Business Solution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29528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For over 10 years, Quorum has helped companies build and maintain leadership positions in the oil &amp; gas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819520"/>
            <a:ext cx="8001000" cy="2895480"/>
          </a:xfrm>
          <a:prstGeom prst="rightArrow">
            <a:avLst>
              <a:gd name="adj1" fmla="val 67259"/>
              <a:gd name="adj2" fmla="val 69133"/>
            </a:avLst>
          </a:prstGeom>
          <a:gradFill rotWithShape="0">
            <a:gsLst>
              <a:gs pos="0">
                <a:srgbClr val="33cc33"/>
              </a:gs>
              <a:gs pos="100000">
                <a:srgbClr val="caf1ca"/>
              </a:gs>
            </a:gsLst>
            <a:lin ang="10800000"/>
          </a:gradFill>
          <a:ln w="19080">
            <a:solidFill>
              <a:srgbClr val="0099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3429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Qu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Exper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3429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Capabilities 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Delive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3429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4038480"/>
            <a:ext cx="16002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4038480"/>
            <a:ext cx="2286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038480"/>
            <a:ext cx="30477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ve complex 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operating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a competitive 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3DD-FB63-4632-8A8E-62E2038D6D9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ompany Profile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667400"/>
            <a:ext cx="1905120" cy="760320"/>
          </a:xfrm>
          <a:prstGeom prst="rect">
            <a:avLst/>
          </a:prstGeom>
          <a:solidFill>
            <a:srgbClr val="00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5427720"/>
            <a:ext cx="1905120" cy="639720"/>
          </a:xfrm>
          <a:prstGeom prst="rect">
            <a:avLst/>
          </a:prstGeom>
          <a:solidFill>
            <a:srgbClr val="33cc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36760"/>
            <a:ext cx="1905120" cy="1430640"/>
          </a:xfrm>
          <a:prstGeom prst="rect">
            <a:avLst/>
          </a:prstGeom>
          <a:solidFill>
            <a:srgbClr val="33cc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stry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371600"/>
            <a:ext cx="1905120" cy="1865160"/>
          </a:xfrm>
          <a:prstGeom prst="rect">
            <a:avLst/>
          </a:prstGeom>
          <a:solidFill>
            <a:srgbClr val="00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s Consulting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236760"/>
            <a:ext cx="7925040" cy="0"/>
          </a:xfrm>
          <a:prstGeom prst="line">
            <a:avLst/>
          </a:prstGeom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4667400"/>
            <a:ext cx="7925040" cy="0"/>
          </a:xfrm>
          <a:prstGeom prst="line">
            <a:avLst/>
          </a:prstGeom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6067440"/>
            <a:ext cx="7925040" cy="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371600"/>
            <a:ext cx="0" cy="469584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1371600"/>
            <a:ext cx="0" cy="4695840"/>
          </a:xfrm>
          <a:prstGeom prst="line">
            <a:avLst/>
          </a:prstGeom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427720"/>
            <a:ext cx="7925040" cy="0"/>
          </a:xfrm>
          <a:prstGeom prst="line">
            <a:avLst/>
          </a:prstGeom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534520" y="1371600"/>
            <a:ext cx="0" cy="469584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1371600"/>
            <a:ext cx="57913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ton, Dallas, Cal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ploye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 owned; consistently profi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3200400"/>
            <a:ext cx="60962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l &amp;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emerging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stream, Midstream, Marketing, Transpor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648320"/>
            <a:ext cx="6096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projects with many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55627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99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cessfu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A7E-35A5-4818-8181-C19D24453D6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391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lient Profiles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76240" y="1371600"/>
            <a:ext cx="1600200" cy="1295280"/>
          </a:xfrm>
          <a:prstGeom prst="roundRect">
            <a:avLst>
              <a:gd name="adj" fmla="val 16667"/>
            </a:avLst>
          </a:prstGeom>
          <a:solidFill>
            <a:srgbClr val="0099cc">
              <a:alpha val="50000"/>
            </a:srgbClr>
          </a:solidFill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35576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Integrated Energy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76240" y="2895480"/>
            <a:ext cx="1600200" cy="762120"/>
          </a:xfrm>
          <a:prstGeom prst="roundRect">
            <a:avLst>
              <a:gd name="adj" fmla="val 16667"/>
            </a:avLst>
          </a:prstGeom>
          <a:solidFill>
            <a:srgbClr val="0099cc">
              <a:alpha val="50000"/>
            </a:srgbClr>
          </a:solidFill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28954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&amp; P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76240" y="3886200"/>
            <a:ext cx="1600200" cy="762120"/>
          </a:xfrm>
          <a:prstGeom prst="roundRect">
            <a:avLst>
              <a:gd name="adj" fmla="val 16667"/>
            </a:avLst>
          </a:prstGeom>
          <a:solidFill>
            <a:srgbClr val="0099cc">
              <a:alpha val="50000"/>
            </a:srgbClr>
          </a:solidFill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388620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yalty Ow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76240" y="487692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0099cc">
              <a:alpha val="50000"/>
            </a:srgbClr>
          </a:solidFill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493704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 Generation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57680" y="1371600"/>
            <a:ext cx="1600200" cy="762120"/>
          </a:xfrm>
          <a:prstGeom prst="roundRect">
            <a:avLst>
              <a:gd name="adj" fmla="val 16667"/>
            </a:avLst>
          </a:prstGeom>
          <a:solidFill>
            <a:srgbClr val="33cc33">
              <a:alpha val="50000"/>
            </a:srgbClr>
          </a:solidFill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13716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stream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57680" y="2362320"/>
            <a:ext cx="1600200" cy="761760"/>
          </a:xfrm>
          <a:prstGeom prst="roundRect">
            <a:avLst>
              <a:gd name="adj" fmla="val 16667"/>
            </a:avLst>
          </a:prstGeom>
          <a:solidFill>
            <a:srgbClr val="33cc33">
              <a:alpha val="50000"/>
            </a:srgbClr>
          </a:solidFill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234648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57680" y="342900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33cc33">
              <a:alpha val="50000"/>
            </a:srgbClr>
          </a:solidFill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34290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Gathering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57680" y="487692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33cc33">
              <a:alpha val="50000"/>
            </a:srgbClr>
          </a:solidFill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95288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ourced Service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38760" y="1371600"/>
            <a:ext cx="1600200" cy="990720"/>
          </a:xfrm>
          <a:prstGeom prst="roundRect">
            <a:avLst>
              <a:gd name="adj" fmla="val 16667"/>
            </a:avLst>
          </a:prstGeom>
          <a:solidFill>
            <a:srgbClr val="0099cc">
              <a:alpha val="50000"/>
            </a:srgbClr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135576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tate Gas Pip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38760" y="2514600"/>
            <a:ext cx="1600200" cy="990720"/>
          </a:xfrm>
          <a:prstGeom prst="roundRect">
            <a:avLst>
              <a:gd name="adj" fmla="val 16667"/>
            </a:avLst>
          </a:prstGeom>
          <a:solidFill>
            <a:srgbClr val="0099cc">
              <a:alpha val="50000"/>
            </a:srgbClr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249876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state Gas Pip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38760" y="3657600"/>
            <a:ext cx="1600200" cy="1066680"/>
          </a:xfrm>
          <a:prstGeom prst="roundRect">
            <a:avLst>
              <a:gd name="adj" fmla="val 16667"/>
            </a:avLst>
          </a:prstGeom>
          <a:solidFill>
            <a:srgbClr val="0099cc">
              <a:alpha val="50000"/>
            </a:srgbClr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365760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      Storage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38760" y="487692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0099cc">
              <a:alpha val="50000"/>
            </a:srgbClr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493704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NG       Facility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19840" y="13716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33cc33">
              <a:alpha val="50000"/>
            </a:srgbClr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19840" y="26668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33cc33">
              <a:alpha val="50000"/>
            </a:srgbClr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19840" y="39625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33cc33">
              <a:alpha val="50000"/>
            </a:srgbClr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19840" y="487692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33cc33">
              <a:alpha val="50000"/>
            </a:srgbClr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14479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Mark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274320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r Mark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495288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Gas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62E3-CD04-445D-9D77-97EEA86D278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Quorum Energy Software Suit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90720" y="1282680"/>
            <a:ext cx="7315200" cy="496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A53-27FB-4576-B92D-3A8F1489DA2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dustry Needs and Challenge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FEF-E4A1-4631-A757-1FD9C457CC9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3:34:23Z</dcterms:created>
  <dc:creator>peter_tsan</dc:creator>
  <dc:description/>
  <dc:language>en-US</dc:language>
  <cp:lastModifiedBy>eric_hazeldine</cp:lastModifiedBy>
  <dcterms:modified xsi:type="dcterms:W3CDTF">2008-11-12T23:45:06Z</dcterms:modified>
  <cp:revision>1013</cp:revision>
  <dc:subject/>
  <dc:title>Presentation to  ABC Company</dc:title>
</cp:coreProperties>
</file>