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9E6CF-1463-49CC-BEDF-9B969ED03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3AC5E-0193-41FB-A09D-9B7F2FA7D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7FF4C-425B-4AD3-862B-8EC373307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E29BD-4D86-44F0-8575-D804C0185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C6A3587-D454-4964-8544-A412A52910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44025C5-CDEB-4FD6-8796-B9C5802B2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39F783F-8C79-41F0-9D67-34004FA75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A7626A-5580-4D05-B6ED-7F8900D2E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EFB748A-F0A4-4C09-9C82-568851FBD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58B0F97-E38E-47D4-852F-E1DAFD44C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F2390F9-3A40-416C-BB6E-9EA21771B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35223-775E-4391-98F0-FD5C4F33E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D03E1C-3094-4C10-B634-D5C94E921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09BE40-2C1A-4C80-8C2A-30D301B06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DC5165D-B794-4C6E-B298-679D8CACA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DAE5F8C-356E-4761-8974-998AA8D73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68ACEDE-1C18-4E3D-B309-CAA8309BA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8FA1E-7B53-4864-B3CA-EC93E2E23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0725D-B101-409D-8290-FE3201302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AA32F-763C-4971-9E7D-DA3D64566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14C47-B64C-4AD4-B8B5-590041A71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05948-3877-4CC4-AE38-902E0B8D2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89DEE-B06C-4883-A207-17EC75274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7DAA1-6B20-4D24-B3EF-6D42143F9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7748-34E6-4A51-BC7F-43DECA584D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54EC-7379-4C5C-A22B-BB0138F290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lections.nytimes.com/2008/results/president/map.html"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58920" y="4076280"/>
            <a:ext cx="6400800" cy="175284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uane Bratt</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epartment of Policy Studies</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ount Royal College</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algary, Alberta</a:t>
            </a:r>
            <a:endParaRPr b="0" lang="en-US" sz="2400" spc="-1" strike="noStrike">
              <a:solidFill>
                <a:srgbClr val="ffffff"/>
              </a:solidFill>
              <a:latin typeface="Arial"/>
            </a:endParaRPr>
          </a:p>
        </p:txBody>
      </p:sp>
      <p:sp>
        <p:nvSpPr>
          <p:cNvPr id="123" name="PlaceHolder 2"/>
          <p:cNvSpPr>
            <a:spLocks noGrp="1"/>
          </p:cNvSpPr>
          <p:nvPr>
            <p:ph type="title"/>
          </p:nvPr>
        </p:nvSpPr>
        <p:spPr>
          <a:xfrm>
            <a:off x="323640" y="188640"/>
            <a:ext cx="8351640" cy="381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anadian energy and the 2008 US Elections</a:t>
            </a:r>
            <a:br>
              <a:rPr sz="5400"/>
            </a:br>
            <a:br>
              <a:rPr sz="5400"/>
            </a:br>
            <a:r>
              <a:rPr b="0" lang="en-US" sz="5400" spc="-1" strike="noStrike">
                <a:solidFill>
                  <a:srgbClr val="e3e3ff"/>
                </a:solidFill>
                <a:latin typeface="Arial"/>
              </a:rPr>
              <a:t> </a:t>
            </a:r>
            <a:r>
              <a:rPr b="0" i="1" lang="en-CA" sz="3200" spc="-1" strike="noStrike">
                <a:solidFill>
                  <a:srgbClr val="e3e3ff"/>
                </a:solidFill>
                <a:latin typeface="Arial"/>
              </a:rPr>
              <a:t>The Future of the Canadian </a:t>
            </a:r>
            <a:br>
              <a:rPr sz="3200"/>
            </a:br>
            <a:r>
              <a:rPr b="0" i="1" lang="en-CA" sz="3200" spc="-1" strike="noStrike">
                <a:solidFill>
                  <a:srgbClr val="e3e3ff"/>
                </a:solidFill>
                <a:latin typeface="Arial"/>
              </a:rPr>
              <a:t>Natural Gas Industry</a:t>
            </a:r>
            <a:br>
              <a:rPr sz="3200"/>
            </a:br>
            <a:r>
              <a:rPr b="0" lang="en-CA" sz="3200" spc="-1" strike="noStrike">
                <a:solidFill>
                  <a:srgbClr val="e3e3ff"/>
                </a:solidFill>
                <a:latin typeface="Arial"/>
              </a:rPr>
              <a:t>Calgary (November 12, 2008)</a:t>
            </a:r>
            <a:endParaRPr b="0" lang="en-US" sz="3200" spc="-1" strike="noStrike">
              <a:solidFill>
                <a:srgbClr val="e3e3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bama’s Energy Campaign</a:t>
            </a:r>
            <a:br>
              <a:rPr sz="4000"/>
            </a:br>
            <a:r>
              <a:rPr b="0" lang="en-US" sz="4000" spc="-1" strike="noStrike">
                <a:solidFill>
                  <a:srgbClr val="e3e3ff"/>
                </a:solidFill>
                <a:latin typeface="Arial"/>
              </a:rPr>
              <a:t> “New Energy for America”</a:t>
            </a:r>
            <a:endParaRPr b="0" lang="en-US" sz="4000" spc="-1" strike="noStrike">
              <a:solidFill>
                <a:srgbClr val="e3e3ff"/>
              </a:solidFill>
              <a:latin typeface="Arial"/>
            </a:endParaRPr>
          </a:p>
        </p:txBody>
      </p:sp>
      <p:sp>
        <p:nvSpPr>
          <p:cNvPr id="14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pecific Policie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 and Trade Program</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 of all emission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emissions 80% below 1990 levels by 2050</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15 Billion a year ($150 B over 10 years) from cap and trade for investment in green energy technology </a:t>
            </a:r>
            <a:endParaRPr b="0" lang="en-US" sz="28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n coal (carbon capture and storage)</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ewables (wind, solar, geothermal, etc)</a:t>
            </a:r>
            <a:endParaRPr b="0" lang="en-US" sz="24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engage with UNFC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bama’s Energy Campaign</a:t>
            </a:r>
            <a:br>
              <a:rPr sz="4000"/>
            </a:br>
            <a:r>
              <a:rPr b="0" lang="en-US" sz="4000" spc="-1" strike="noStrike">
                <a:solidFill>
                  <a:srgbClr val="e3e3ff"/>
                </a:solidFill>
                <a:latin typeface="Arial"/>
              </a:rPr>
              <a:t> “New Energy for America”</a:t>
            </a:r>
            <a:endParaRPr b="0" lang="en-US" sz="4000" spc="-1" strike="noStrike">
              <a:solidFill>
                <a:srgbClr val="e3e3ff"/>
              </a:solidFill>
              <a:latin typeface="Arial"/>
            </a:endParaRPr>
          </a:p>
        </p:txBody>
      </p:sp>
      <p:sp>
        <p:nvSpPr>
          <p:cNvPr id="14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pecific Policie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Efficiency Program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vt buildings, low-income housing, and all new buildings would require to be carbon neutral (2030)</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icity Gri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hicles </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domestic drill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sting oil leases and the Outer Continental Shelf</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not Arctic Wildern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ort Term Strategy</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ency Energy Rebat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 an individual/$1000 for a married coup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fall Profits Tax on “big oil”</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e oil from Strategic Petroleum Reserve to Cut Prices</a:t>
            </a:r>
            <a:endParaRPr b="0" lang="en-US" sz="2800" spc="-1" strike="noStrike">
              <a:solidFill>
                <a:srgbClr val="ffffff"/>
              </a:solidFill>
              <a:latin typeface="Arial"/>
            </a:endParaRPr>
          </a:p>
        </p:txBody>
      </p:sp>
      <p:pic>
        <p:nvPicPr>
          <p:cNvPr id="147" name="" descr=""/>
          <p:cNvPicPr/>
          <p:nvPr/>
        </p:nvPicPr>
        <p:blipFill>
          <a:blip r:embed="rId1"/>
          <a:stretch/>
        </p:blipFill>
        <p:spPr>
          <a:xfrm>
            <a:off x="4648320" y="1700280"/>
            <a:ext cx="4038480" cy="3662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alysis</a:t>
            </a:r>
            <a:endParaRPr b="0" lang="en-US" sz="4400" spc="-1" strike="noStrike">
              <a:solidFill>
                <a:srgbClr val="e3e3ff"/>
              </a:solidFill>
              <a:latin typeface="Arial"/>
            </a:endParaRPr>
          </a:p>
        </p:txBody>
      </p:sp>
      <p:sp>
        <p:nvSpPr>
          <p:cNvPr id="149" name="PlaceHolder 2"/>
          <p:cNvSpPr>
            <a:spLocks noGrp="1"/>
          </p:cNvSpPr>
          <p:nvPr>
            <p:ph/>
          </p:nvPr>
        </p:nvSpPr>
        <p:spPr>
          <a:xfrm>
            <a:off x="457200" y="1599840"/>
            <a:ext cx="8229600" cy="21718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drop in oil prices and gas prices, it is likely that many of these items will be scrapped.</a:t>
            </a:r>
            <a:endParaRPr b="0" lang="en-US" sz="2800" spc="-1" strike="noStrike">
              <a:solidFill>
                <a:srgbClr val="ffffff"/>
              </a:solidFill>
              <a:latin typeface="Arial"/>
            </a:endParaRPr>
          </a:p>
        </p:txBody>
      </p:sp>
      <p:pic>
        <p:nvPicPr>
          <p:cNvPr id="150" name="" descr=""/>
          <p:cNvPicPr/>
          <p:nvPr/>
        </p:nvPicPr>
        <p:blipFill>
          <a:blip r:embed="rId1"/>
          <a:stretch/>
        </p:blipFill>
        <p:spPr>
          <a:xfrm>
            <a:off x="539640" y="3645000"/>
            <a:ext cx="3054600" cy="2171520"/>
          </a:xfrm>
          <a:prstGeom prst="rect">
            <a:avLst/>
          </a:prstGeom>
          <a:ln w="0">
            <a:noFill/>
          </a:ln>
        </p:spPr>
      </p:pic>
      <p:sp>
        <p:nvSpPr>
          <p:cNvPr id="151" name=""/>
          <p:cNvSpPr/>
          <p:nvPr/>
        </p:nvSpPr>
        <p:spPr>
          <a:xfrm>
            <a:off x="685800" y="2997360"/>
            <a:ext cx="253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ril 22, 2008</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52" name="" descr=""/>
          <p:cNvPicPr/>
          <p:nvPr/>
        </p:nvPicPr>
        <p:blipFill>
          <a:blip r:embed="rId2"/>
          <a:stretch/>
        </p:blipFill>
        <p:spPr>
          <a:xfrm>
            <a:off x="5580000" y="3573360"/>
            <a:ext cx="3095640" cy="2232000"/>
          </a:xfrm>
          <a:prstGeom prst="rect">
            <a:avLst/>
          </a:prstGeom>
          <a:ln w="0">
            <a:noFill/>
          </a:ln>
        </p:spPr>
      </p:pic>
      <p:sp>
        <p:nvSpPr>
          <p:cNvPr id="153" name=""/>
          <p:cNvSpPr/>
          <p:nvPr/>
        </p:nvSpPr>
        <p:spPr>
          <a:xfrm>
            <a:off x="5583240" y="2924280"/>
            <a:ext cx="3029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ober 22, 200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it Polling Data</a:t>
            </a:r>
            <a:endParaRPr b="0" lang="en-US" sz="4400" spc="-1" strike="noStrike">
              <a:solidFill>
                <a:srgbClr val="e3e3ff"/>
              </a:solidFill>
              <a:latin typeface="Arial"/>
            </a:endParaRPr>
          </a:p>
        </p:txBody>
      </p:sp>
      <p:graphicFrame>
        <p:nvGraphicFramePr>
          <p:cNvPr id="156" name=""/>
          <p:cNvGraphicFramePr/>
          <p:nvPr/>
        </p:nvGraphicFramePr>
        <p:xfrm>
          <a:off x="457200" y="1600200"/>
          <a:ext cx="8229600" cy="4759200"/>
        </p:xfrm>
        <a:graphic>
          <a:graphicData uri="http://schemas.openxmlformats.org/drawingml/2006/table">
            <a:tbl>
              <a:tblPr/>
              <a:tblGrid>
                <a:gridCol w="2743200"/>
                <a:gridCol w="2743200"/>
                <a:gridCol w="27432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mportant Issu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am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cCai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38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nomy (6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3%</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0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aq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9%</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rorism (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86%</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are (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3%</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Policy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it Polling Data</a:t>
            </a:r>
            <a:endParaRPr b="0" lang="en-US" sz="4400" spc="-1" strike="noStrike">
              <a:solidFill>
                <a:srgbClr val="e3e3ff"/>
              </a:solidFill>
              <a:latin typeface="Arial"/>
            </a:endParaRPr>
          </a:p>
        </p:txBody>
      </p:sp>
      <p:graphicFrame>
        <p:nvGraphicFramePr>
          <p:cNvPr id="158" name=""/>
          <p:cNvGraphicFramePr/>
          <p:nvPr/>
        </p:nvGraphicFramePr>
        <p:xfrm>
          <a:off x="457200" y="1600200"/>
          <a:ext cx="8229600" cy="2532240"/>
        </p:xfrm>
        <a:graphic>
          <a:graphicData uri="http://schemas.openxmlformats.org/drawingml/2006/table">
            <a:tbl>
              <a:tblPr/>
              <a:tblGrid>
                <a:gridCol w="2743200"/>
                <a:gridCol w="2743200"/>
                <a:gridCol w="2743200"/>
              </a:tblGrid>
              <a:tr h="637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am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cCai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s to Offshore Drilling (6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to Offshore Drilling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9" name=""/>
          <p:cNvSpPr/>
          <p:nvPr/>
        </p:nvSpPr>
        <p:spPr>
          <a:xfrm>
            <a:off x="395280" y="4529160"/>
            <a:ext cx="8353440" cy="1556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3200" spc="-1" strike="noStrike">
                <a:solidFill>
                  <a:srgbClr val="ffffff"/>
                </a:solidFill>
                <a:latin typeface="Arial"/>
              </a:rPr>
              <a:t>Energy was a distant 5</a:t>
            </a:r>
            <a:r>
              <a:rPr b="0" lang="en-US" sz="3200" spc="-1" strike="noStrike" baseline="30000">
                <a:solidFill>
                  <a:srgbClr val="ffffff"/>
                </a:solidFill>
                <a:latin typeface="Arial"/>
              </a:rPr>
              <a:t>th</a:t>
            </a:r>
            <a:r>
              <a:rPr b="0" lang="en-US" sz="3200" spc="-1" strike="noStrike">
                <a:solidFill>
                  <a:srgbClr val="ffffff"/>
                </a:solidFill>
                <a:latin typeface="Arial"/>
              </a:rPr>
              <a:t> on important    issues.</a:t>
            </a:r>
            <a:endParaRPr b="0" lang="en-US" sz="3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 questions on Climate Chang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8"/>
                                        </p:tgtEl>
                                        <p:attrNameLst>
                                          <p:attrName>style.visibility</p:attrName>
                                        </p:attrNameLst>
                                      </p:cBhvr>
                                      <p:to>
                                        <p:strVal val="visible"/>
                                      </p:to>
                                    </p:set>
                                    <p:animEffect filter="blinds(horizontal)" transition="in">
                                      <p:cBhvr additive="repl">
                                        <p:cTn id="7" dur="500"/>
                                        <p:tgtEl>
                                          <p:spTgt spid="1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9"/>
                                        </p:tgtEl>
                                        <p:attrNameLst>
                                          <p:attrName>style.visibility</p:attrName>
                                        </p:attrNameLst>
                                      </p:cBhvr>
                                      <p:to>
                                        <p:strVal val="visible"/>
                                      </p:to>
                                    </p:set>
                                    <p:animEffect filter="blinds(horizontal)" transition="in">
                                      <p:cBhvr additive="repl">
                                        <p:cTn id="12"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nergy Independence &amp; </a:t>
            </a:r>
            <a:br>
              <a:rPr sz="4000"/>
            </a:br>
            <a:r>
              <a:rPr b="0" lang="en-US" sz="4000" spc="-1" strike="noStrike">
                <a:solidFill>
                  <a:srgbClr val="e3e3ff"/>
                </a:solidFill>
                <a:latin typeface="Arial"/>
              </a:rPr>
              <a:t>Security Act (2007)</a:t>
            </a:r>
            <a:endParaRPr b="0" lang="en-US" sz="4000" spc="-1" strike="noStrike">
              <a:solidFill>
                <a:srgbClr val="e3e3ff"/>
              </a:solidFill>
              <a:latin typeface="Arial"/>
            </a:endParaRPr>
          </a:p>
        </p:txBody>
      </p:sp>
      <p:sp>
        <p:nvSpPr>
          <p:cNvPr id="161"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99000"/>
          </a:bodyPr>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vehicle fuel efficiency</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miles per gallon</a:t>
            </a:r>
            <a:endParaRPr b="0" lang="en-US" sz="24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ments in domestic biofuels</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efficient appliances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bulbs, refrigerators, dishwashers, etc</a:t>
            </a:r>
            <a:endParaRPr b="0" lang="en-US" sz="24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amp; D in reducing GHG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 capture and storage</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n energy development</a:t>
            </a:r>
            <a:endParaRPr b="0" lang="en-US" sz="24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n Collar Jobs</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Americans for green energy econom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nergy Independence &amp; </a:t>
            </a:r>
            <a:br>
              <a:rPr sz="4000"/>
            </a:br>
            <a:r>
              <a:rPr b="0" lang="en-US" sz="4000" spc="-1" strike="noStrike">
                <a:solidFill>
                  <a:srgbClr val="e3e3ff"/>
                </a:solidFill>
                <a:latin typeface="Arial"/>
              </a:rPr>
              <a:t>Security Act (2007)</a:t>
            </a:r>
            <a:endParaRPr b="0" lang="en-US" sz="4000" spc="-1" strike="noStrike">
              <a:solidFill>
                <a:srgbClr val="e3e3ff"/>
              </a:solidFill>
              <a:latin typeface="Arial"/>
            </a:endParaRPr>
          </a:p>
        </p:txBody>
      </p:sp>
      <p:sp>
        <p:nvSpPr>
          <p:cNvPr id="163"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526</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s US federal agencies (military, post office, etc) from buying imported fuel in which the GHG emissions are “less than or equal to such emissions from the equivalent conventional fuel produced from conventional petroleum 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Canada and the Energy Independence and </a:t>
            </a:r>
            <a:br>
              <a:rPr sz="3200"/>
            </a:br>
            <a:r>
              <a:rPr b="0" lang="en-US" sz="3200" spc="-1" strike="noStrike">
                <a:solidFill>
                  <a:srgbClr val="e3e3ff"/>
                </a:solidFill>
                <a:latin typeface="Arial"/>
              </a:rPr>
              <a:t>Security Act (2007)</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6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 Kupfer, Acting Deputy Sec of Energy</a:t>
            </a:r>
            <a:endParaRPr b="0" lang="en-US" sz="24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adians shouldn’t be concerned</a:t>
            </a:r>
            <a:endParaRPr b="0" lang="en-US" sz="20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st source of imported crude oil</a:t>
            </a:r>
            <a:endParaRPr b="0" lang="en-US" sz="20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a “friendly source” of energy, unlike Venezuela and the Middle East</a:t>
            </a:r>
            <a:endParaRPr b="0" lang="en-US" sz="20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ada is not foreign oil</a:t>
            </a:r>
            <a:endParaRPr b="0" lang="en-US" sz="20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526 could violate “national treatment” provisions of NAFTA and WTO</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mendment that tried to ban all “dirty oil” – aimed at the Oil Sands - was defeated in Congress (Sept 2008) </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nry Waxman, prominent Member of the House Energy Committee </a:t>
            </a:r>
            <a:endParaRPr b="0" lang="en-US" sz="24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ly assured Canadian oilmen that this provision would not apply to Canad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utline</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of the 2008 US Elec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Polic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ama Campaig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gre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 Gas Expo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nate Legislative Agenda</a:t>
            </a:r>
            <a:endParaRPr b="0" lang="en-US" sz="44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vironment:</a:t>
            </a:r>
            <a:r>
              <a:rPr b="0" lang="en-US" sz="3200" spc="-1" strike="noStrike">
                <a:solidFill>
                  <a:srgbClr val="ffffff"/>
                </a:solidFill>
                <a:latin typeface="Arial"/>
              </a:rPr>
              <a:t> A bill to require States and metropolitan planning organizations to develop transportation greenhouse gas reduction plans to reduce greenhouse gas emissions from the transportation sect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nsor Barbara Boxer (D-CA) and Tom Carper (D-D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ifornia Initiatives</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key renewable energy initiatives were defeated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ition 7</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EWABLE ENERGY GENERATION </a:t>
            </a:r>
            <a:endParaRPr b="0" lang="en-US" sz="24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4.9% No</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ition 10</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 FUEL VEHICLES AND RENEWABLE ENERGY</a:t>
            </a:r>
            <a:endParaRPr b="0" lang="en-US" sz="24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9.9% No </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ther State Initiatives</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ouri would require investor-owned utilities to produce or buy 15% of their electricity from renewable resources by 2020.</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6% Yes </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ado would increase taxes paid by the oil and gas industry and distribute 10% of the new revenue to programs promoting energy efficiency and renewable source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5% N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ifornia</a:t>
            </a:r>
            <a:endParaRPr b="0" lang="en-US" sz="4400" spc="-1" strike="noStrike">
              <a:solidFill>
                <a:srgbClr val="e3e3ff"/>
              </a:solidFill>
              <a:latin typeface="Arial"/>
            </a:endParaRPr>
          </a:p>
        </p:txBody>
      </p:sp>
      <p:sp>
        <p:nvSpPr>
          <p:cNvPr id="173" name="PlaceHolder 2"/>
          <p:cNvSpPr>
            <a:spLocks noGrp="1"/>
          </p:cNvSpPr>
          <p:nvPr>
            <p:ph/>
          </p:nvPr>
        </p:nvSpPr>
        <p:spPr>
          <a:xfrm>
            <a:off x="457200" y="1600200"/>
            <a:ext cx="49068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has a higher population and GDP than Canad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cades, California has often set the environmental regulations in the U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largely bipartisa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vernor Schwarzenegger (Rep) has transformed himself into the Green Governor</a:t>
            </a:r>
            <a:endParaRPr b="0" lang="en-US" sz="2400" spc="-1" strike="noStrike">
              <a:solidFill>
                <a:srgbClr val="ffffff"/>
              </a:solidFill>
              <a:latin typeface="Arial"/>
            </a:endParaRPr>
          </a:p>
        </p:txBody>
      </p:sp>
      <p:pic>
        <p:nvPicPr>
          <p:cNvPr id="174" name="" descr=""/>
          <p:cNvPicPr/>
          <p:nvPr/>
        </p:nvPicPr>
        <p:blipFill>
          <a:blip r:embed="rId1"/>
          <a:stretch/>
        </p:blipFill>
        <p:spPr>
          <a:xfrm>
            <a:off x="5334120" y="1628640"/>
            <a:ext cx="3809880" cy="4064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ifornia</a:t>
            </a:r>
            <a:endParaRPr b="0" lang="en-US" sz="4400" spc="-1" strike="noStrike">
              <a:solidFill>
                <a:srgbClr val="e3e3ff"/>
              </a:solidFill>
              <a:latin typeface="Arial"/>
            </a:endParaRPr>
          </a:p>
        </p:txBody>
      </p:sp>
      <p:sp>
        <p:nvSpPr>
          <p:cNvPr id="17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ifornia is between 9-16 largest GHG emitter in the worl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per capita emissions are roughly 5 times that of China, 12 times that of India, but only 2/3 of the US averag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Action Plan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Warming Solutions Act (2006)</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0 GHGs levels by 2020</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11% reduction from current emissions leve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ifornia</a:t>
            </a:r>
            <a:endParaRPr b="0" lang="en-US" sz="4400" spc="-1" strike="noStrike">
              <a:solidFill>
                <a:srgbClr val="e3e3ff"/>
              </a:solidFill>
              <a:latin typeface="Arial"/>
            </a:endParaRPr>
          </a:p>
        </p:txBody>
      </p:sp>
      <p:sp>
        <p:nvSpPr>
          <p:cNvPr id="17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ther Policy Goal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gher emission standards on new automobil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as opposed by the EPA.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ama govt will drop that opposition.</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ing natural gas imports from Canad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stern Climate Initia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79">
                                            <p:txEl>
                                              <p:pRg st="1" end="1"/>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179">
                                            <p:txEl>
                                              <p:pRg st="2" end="2"/>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estern Climate Initiative</a:t>
            </a:r>
            <a:endParaRPr b="0" lang="en-US" sz="4400" spc="-1" strike="noStrike">
              <a:solidFill>
                <a:srgbClr val="e3e3ff"/>
              </a:solidFill>
              <a:latin typeface="Arial"/>
            </a:endParaRPr>
          </a:p>
        </p:txBody>
      </p:sp>
      <p:sp>
        <p:nvSpPr>
          <p:cNvPr id="18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ing a “cap and trade” system for the West.</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ner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Arizona, California, Montana, New Mexico, Oregon, Washington, Uta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ada: BC, Manitoba, Ontario, Quebec</a:t>
            </a:r>
            <a:endParaRPr b="0" lang="en-US" sz="24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er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ska, Idaho, Colorado, Nevada, Kansas, Wyoming</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skatchewan, and northern Mexican border states</a:t>
            </a:r>
            <a:endParaRPr b="0" lang="en-US" sz="24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able Absenc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berta and Tex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North American </a:t>
            </a:r>
            <a:br>
              <a:rPr sz="4000"/>
            </a:br>
            <a:r>
              <a:rPr b="0" lang="en-US" sz="4000" spc="-1" strike="noStrike">
                <a:solidFill>
                  <a:srgbClr val="e3e3ff"/>
                </a:solidFill>
                <a:latin typeface="Arial"/>
              </a:rPr>
              <a:t>Cap and Trade System?</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CI already exists and is grow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ama (and McCain) campaigned on Cap and Tra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per govt is approaching Obama about a North American Climate Change Pac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 and Trade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nadian Natural Gas Exports </a:t>
            </a: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 gas exports are a major driver of the Alberta econom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yalties between 2000-2007 were $42.6 bill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FTA has provided secure access to the American market for Canadian natural g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sidency</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oral College Vot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ama 364</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cCain 162</a:t>
            </a:r>
            <a:endParaRPr b="0" lang="en-US" sz="28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ing in Missouri (11 votes)</a:t>
            </a:r>
            <a:endParaRPr b="0" lang="en-US" sz="24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r Vot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ama 52.5% (64,237,339 vot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cCain 46.2% (56,626,131 votes)</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http://elections.nytimes.com/2008/results/president/map.html</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nadian Natural Gas Export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ama promised to negotiate NAFTA.</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our and Environmental standards</a:t>
            </a:r>
            <a:endParaRPr b="0" lang="en-US" sz="28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will not happen.</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mpaigns vs Governing</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y Battle with Hilary Clinton</a:t>
            </a:r>
            <a:endParaRPr b="0" lang="en-US" sz="28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Energy requirements will prevent it from reopening NAFTA</a:t>
            </a:r>
            <a:endParaRPr b="0" lang="en-US" sz="3200" spc="-1" strike="noStrike">
              <a:solidFill>
                <a:srgbClr val="ffffff"/>
              </a:solidFill>
              <a:latin typeface="Arial"/>
            </a:endParaRPr>
          </a:p>
          <a:p>
            <a:pPr marL="609480" indent="-60948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FTA is code for China and Ind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87">
                                            <p:txEl>
                                              <p:pRg st="0" end="0"/>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87">
                                            <p:txEl>
                                              <p:pRg st="3" end="3"/>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187">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8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nate</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7 Democrat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Republica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undecided</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nesota (leaning Rep)</a:t>
            </a:r>
            <a:endParaRPr b="0" lang="en-US" sz="24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ska (leaning Rep)</a:t>
            </a:r>
            <a:endParaRPr b="0" lang="en-US" sz="24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rgia (leaning Rep)</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Committees will have a Dem Chai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Committees will have a Dem Major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use of Representatives</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4 Democra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3 Republica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Undecid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Committees will have a Dem Chai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Committees will have a Dem Majority.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ndate for Change</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ama will have a wide mandate for chang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electoral collage total</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point victory – 7.5 million vote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e battleground states</a:t>
            </a:r>
            <a:endParaRPr b="0" lang="en-US" sz="28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hio, Pennsylvania, Florida</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umber of Rep states</a:t>
            </a:r>
            <a:endParaRPr b="0" lang="en-US" sz="28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vada, Colorado, New Mexico, Indiana, North Carolina, Virginia</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the large states (ex Tex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mocratic Unified Government</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ngth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 will have a wide mandate for change</a:t>
            </a:r>
            <a:endParaRPr b="0" lang="en-US" sz="28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Senate (or more)</a:t>
            </a:r>
            <a:endParaRPr b="0" lang="en-US" sz="2400" spc="-1" strike="noStrike">
              <a:solidFill>
                <a:srgbClr val="ffffff"/>
              </a:solidFill>
              <a:latin typeface="Arial"/>
            </a:endParaRPr>
          </a:p>
          <a:p>
            <a:pPr lvl="2" marL="1143000" indent="-22860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 House (or more)</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neymoon period </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 sector donates 80% of its money to the Republican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alists are a core constituency of the Democra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mocratic Unified Government</a:t>
            </a:r>
            <a:endParaRPr b="0" lang="en-US" sz="4400" spc="-1" strike="noStrike">
              <a:solidFill>
                <a:srgbClr val="e3e3ff"/>
              </a:solidFill>
              <a:latin typeface="Arial"/>
            </a:endParaRPr>
          </a:p>
        </p:txBody>
      </p:sp>
      <p:sp>
        <p:nvSpPr>
          <p:cNvPr id="137"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knesse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 party discipline</a:t>
            </a:r>
            <a:endParaRPr b="0" lang="en-US" sz="2400" spc="-1" strike="noStrike">
              <a:solidFill>
                <a:srgbClr val="ffffff"/>
              </a:solidFill>
              <a:latin typeface="Arial"/>
            </a:endParaRPr>
          </a:p>
          <a:p>
            <a:pPr lvl="2" marL="1131480" indent="-22608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powerbases</a:t>
            </a:r>
            <a:endParaRPr b="0" lang="en-US" sz="2000" spc="-1" strike="noStrike">
              <a:solidFill>
                <a:srgbClr val="ffffff"/>
              </a:solidFill>
              <a:latin typeface="Arial"/>
            </a:endParaRPr>
          </a:p>
          <a:p>
            <a:pPr lvl="3" marL="1584000" indent="-226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high incumbency rates</a:t>
            </a:r>
            <a:endParaRPr b="0" lang="en-US" sz="1800" spc="-1" strike="noStrike">
              <a:solidFill>
                <a:srgbClr val="ffffff"/>
              </a:solidFill>
              <a:latin typeface="Arial"/>
            </a:endParaRPr>
          </a:p>
          <a:p>
            <a:pPr lvl="2" marL="1131480" indent="-22608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ue Dog Democrats</a:t>
            </a:r>
            <a:endParaRPr b="0" lang="en-US" sz="2000" spc="-1" strike="noStrike">
              <a:solidFill>
                <a:srgbClr val="ffffff"/>
              </a:solidFill>
              <a:latin typeface="Arial"/>
            </a:endParaRPr>
          </a:p>
          <a:p>
            <a:pPr lvl="2" marL="1131480" indent="-22608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have been unified govts in the past</a:t>
            </a:r>
            <a:endParaRPr b="0" lang="en-US" sz="2000" spc="-1" strike="noStrike">
              <a:solidFill>
                <a:srgbClr val="ffffff"/>
              </a:solidFill>
              <a:latin typeface="Arial"/>
            </a:endParaRPr>
          </a:p>
          <a:p>
            <a:pPr lvl="3" marL="1584000" indent="-226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7-1980 Carter and Democrats</a:t>
            </a:r>
            <a:endParaRPr b="0" lang="en-US" sz="1800" spc="-1" strike="noStrike">
              <a:solidFill>
                <a:srgbClr val="ffffff"/>
              </a:solidFill>
              <a:latin typeface="Arial"/>
            </a:endParaRPr>
          </a:p>
          <a:p>
            <a:pPr lvl="3" marL="1584000" indent="-226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3-94 Clinton and Democrats</a:t>
            </a:r>
            <a:endParaRPr b="0" lang="en-US" sz="1800" spc="-1" strike="noStrike">
              <a:solidFill>
                <a:srgbClr val="ffffff"/>
              </a:solidFill>
              <a:latin typeface="Arial"/>
            </a:endParaRPr>
          </a:p>
          <a:p>
            <a:pPr lvl="3" marL="1584000" indent="-226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3-2006 Bush and Republicans</a:t>
            </a:r>
            <a:endParaRPr b="0" lang="en-US" sz="1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ks the 60-seats in the Senate</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challenges</a:t>
            </a:r>
            <a:endParaRPr b="0" lang="en-US" sz="2400" spc="-1" strike="noStrike">
              <a:solidFill>
                <a:srgbClr val="ffffff"/>
              </a:solidFill>
              <a:latin typeface="Arial"/>
            </a:endParaRPr>
          </a:p>
          <a:p>
            <a:pPr lvl="2" marL="1131480" indent="-22608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aq/Afghanistan</a:t>
            </a:r>
            <a:endParaRPr b="0" lang="en-US" sz="2000" spc="-1" strike="noStrike">
              <a:solidFill>
                <a:srgbClr val="ffffff"/>
              </a:solidFill>
              <a:latin typeface="Arial"/>
            </a:endParaRPr>
          </a:p>
          <a:p>
            <a:pPr lvl="2" marL="1131480" indent="-22608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Crisis</a:t>
            </a:r>
            <a:endParaRPr b="0" lang="en-US" sz="2000" spc="-1" strike="noStrike">
              <a:solidFill>
                <a:srgbClr val="ffffff"/>
              </a:solidFill>
              <a:latin typeface="Arial"/>
            </a:endParaRPr>
          </a:p>
          <a:p>
            <a:pPr lvl="2" marL="1131480" indent="-22608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Ca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bama’s Energy Campaign</a:t>
            </a:r>
            <a:br>
              <a:rPr sz="4000"/>
            </a:br>
            <a:r>
              <a:rPr b="0" lang="en-US" sz="4000" spc="-1" strike="noStrike">
                <a:solidFill>
                  <a:srgbClr val="e3e3ff"/>
                </a:solidFill>
                <a:latin typeface="Arial"/>
              </a:rPr>
              <a:t> “New Energy for America”</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49068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he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r Efficienci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Green Energy Technologi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r govt participation</a:t>
            </a:r>
            <a:endParaRPr b="0" lang="en-US" sz="2800" spc="-1" strike="noStrike">
              <a:solidFill>
                <a:srgbClr val="ffffff"/>
              </a:solidFill>
              <a:latin typeface="Arial"/>
            </a:endParaRPr>
          </a:p>
        </p:txBody>
      </p:sp>
      <p:pic>
        <p:nvPicPr>
          <p:cNvPr id="140" name="" descr=""/>
          <p:cNvPicPr/>
          <p:nvPr/>
        </p:nvPicPr>
        <p:blipFill>
          <a:blip r:embed="rId1"/>
          <a:stretch/>
        </p:blipFill>
        <p:spPr>
          <a:xfrm>
            <a:off x="5400720" y="1773360"/>
            <a:ext cx="3419280" cy="397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18:14:20Z</dcterms:created>
  <dc:creator>Mount Royal</dc:creator>
  <dc:description/>
  <dc:language>en-US</dc:language>
  <cp:lastModifiedBy>Mount Royal</cp:lastModifiedBy>
  <dcterms:modified xsi:type="dcterms:W3CDTF">2008-11-06T21:40:17Z</dcterms:modified>
  <cp:revision>100</cp:revision>
  <dc:subject/>
  <dc:title>Slide 1</dc:title>
</cp:coreProperties>
</file>