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50D-9119-4DCA-957E-2ADBB87B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41D-6CF3-4285-9F33-D2C4ACBC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803-C0C4-4D9B-9D71-21AFEB92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FF4-E67C-4132-8899-ACAB17F2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BEA-9525-4567-99D5-9EA0DCB6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A741-BBD2-48FF-95AF-C50F2A99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D245-6DAD-4AEE-8750-940815C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433F-B968-4262-B91B-D8FA2F3F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75C9-554D-4AC8-87EA-643C87E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411-F534-45B8-8BC1-D246CAE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16E-DA91-4010-9B8D-B02EEA5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474-7342-4001-AAC1-EA166D34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370-CD76-4147-A9B0-848D53F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D82-56DA-48DC-B493-798BC4BD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ABC-7781-4D01-818C-9D67FB9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68BD-CB10-424B-A093-6E3423C6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29F0-5D95-48B9-AADF-AAFBBE6E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9C2-4E0C-4BA4-9384-2497C4B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AA3-2F8E-40B4-8C2F-02CA8E0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9AE-86EA-46EC-BD23-31B8565D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4AC-06AB-4C40-9DA1-801065F4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F4E-B605-4A24-8768-6EDB812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7B1-60AE-4B32-8DCF-7550EDC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536-7997-47E0-A105-08CC32D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B08-7745-430E-9BF6-B0716A4F64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5AC-926B-4CAE-B008-DF918BD1B0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an A Producer Become An Effective Midstreamer?</a:t>
            </a:r>
            <a:br>
              <a:rPr sz="3200"/>
            </a:br>
            <a:br>
              <a:rPr sz="3200"/>
            </a:br>
            <a:br>
              <a:rPr sz="16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14</a:t>
            </a:r>
            <a:r>
              <a:rPr b="1" lang="en-US" sz="18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Annual GPAC/PJVA Joint Conference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ovember 6, 2007</a:t>
            </a:r>
            <a:br>
              <a:rPr sz="4400"/>
            </a:b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Bart van Schaayk, P.Eng.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43000" y="5486400"/>
          <a:ext cx="675972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486400"/>
                    <a:ext cx="6759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ther Considera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perty specif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models for different proper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arty potent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onomies of scale potent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allia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 you entertain a partner?   If so, who and under what term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ther Considerations (cont’d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rcumstances change with time;  so can your best midstream model(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stream facilities can evolve from 100% Producer to 100% Midstreamer owner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mming U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ffective midstream model for each producer is a function of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ducer’s corporate goals and strate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racteristics of the facilities, your reserves and the geographic 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idstream Value Ch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an Effective Producer-Midstream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idstream Spectr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midstream model best meets your corporate goal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mming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ective Producer-Midstream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depends on your perspecti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ducer as the Midstream customer, 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ducer as the Midstream service provi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’ll look at it from the view of the Producer as the midstream service provid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Effective Producer-Midstrea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producer who is able to utilize its midstream assets in a way that meets its particular corporate goals or strateg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idstream Spectrum</a:t>
            </a:r>
            <a:br>
              <a:rPr sz="4000"/>
            </a:br>
            <a:br>
              <a:rPr sz="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om 100% Producer focus to 100% Midstreamer focu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defined Midstream orga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ilities are integral to Producer’s E&amp;P effo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ually in growth phase of resource proper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 focus on developing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arty busi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provides competitive E&amp;P advan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potential for cost inefficiencies through lower utiliz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nal Midstream business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gnition of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arty revenue opportun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ry focus still on own E&amp;P effo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realize some additional revenue potenti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limited ability to meet customer nee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idstream Spectrum (cont’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roducer-Midstream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nal group focused on managing infrastruc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parate organization from E&amp;P grou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way to help economically support expensive infrastruc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takes advantage of economies of sc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identity crisis (Producer?  Midstreamer?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olly owned Midstream affili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and alone division or separate ent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si arms-length contracts with ow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nd to apply when reserves development is ma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can provide customers with confidenti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less infrastructure control by E&amp;P ar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idstream Spectrum (cont’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dstream asset management farm-o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ract out management of excess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be a success based arran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create value without losing E&amp;P foc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requires clear agreement and understa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oint ownership of a Midstream ent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int asset ownership by Producer and non-Produc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er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arty potential and foc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partial monetization of assets by Produc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arms length contracts with Producer/Own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idstream Spectrum (cont’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buClr>
                <a:srgbClr val="ffffff"/>
              </a:buClr>
              <a:buSzPct val="6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dependent Midstream compan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-438840"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 Producer owne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-438840"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tally dependent on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arty busi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-438840"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be part of an exit strategy for producer/ow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-438840"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 – Full monetization of Producer’s as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-438840"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 – Loss of competitive E&amp;P advan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midstream model best meets your corporate goal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16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ich midstream model best meets your corporate goa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– It depends on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corporate mi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your company view midstream facilit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it change with circumstanc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scal si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 you need to monetize asset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so, to what exten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et characteri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re are you in the life of your reserv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wth or harvest phas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your reserves and/or facilities core or nonco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400800" y="6248520"/>
          <a:ext cx="2743200" cy="40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248520"/>
                    <a:ext cx="2743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20:37:43Z</dcterms:created>
  <dc:creator>GPM</dc:creator>
  <dc:description/>
  <dc:language>en-US</dc:language>
  <cp:lastModifiedBy>Bart Van Schaayk</cp:lastModifiedBy>
  <dcterms:modified xsi:type="dcterms:W3CDTF">2007-10-29T16:04:13Z</dcterms:modified>
  <cp:revision>118</cp:revision>
  <dc:subject/>
  <dc:title>No Slide Title</dc:title>
</cp:coreProperties>
</file>