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7AE-76AD-4A90-8DFD-78462D66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E6B-873E-47F8-B852-C170675D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B54-B838-4DFC-BDA0-64C24A0B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59D-96AC-4913-994D-909749D4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CDE-C118-4381-AB6D-4F3E9725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21E-08C6-448D-9810-274074F8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D06-4144-4B0F-B28D-440102B0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208-4514-4148-AC72-2F5476C0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730-A9F7-4075-A88C-744AC449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809-EA47-4DC8-8F90-9D2275AF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C74-B100-45EF-AE89-F497397F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578-9FB7-4F5D-B071-3D4596E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198D-190E-49F4-9BE0-BE9BDFFC2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380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mission Performance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se are credits for better than targe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mission Off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ction (project) must be taken in Alberta on or after January 1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t otherwise required by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ust be verified by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und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vest in the Climate Change and Emissions Management Fund at $15/tonne – funds used to develop or invest in Alberta based technologies, programs, and other priority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1040" y="609480"/>
            <a:ext cx="714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Options to Achieve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The Carbon 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ies for any activities outside of the regulatory system to get paid for reducing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costs (data collection, ver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influenced by $15/tonne (Fu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s created based on verification of emission reductions using government approve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approved thus far, inclu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mass combustion (displace fossil fuels, avoided methane from landfil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ting (avoided methane from landfil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fill gas management (methane destruction/cap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compliance demand of approximately 10 million tonnes annu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25 million tonnes of MSW not going to land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CEMA F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mechanism to support transformativ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the only one - payments could be up to $177 million/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caps th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compliance cost/price of 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managed by an arms length Board with the intent to balance multi-stakeholder interests with a desire for focused strategic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ing to identify the appropriate role of the fund in bringing technologies/actions/behaviors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erta the first jurisdiction in North America to create a multi-sector regulatory-based demand for carbon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ncial system focused on technology development and behavioral shi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stages of a carbon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nterest in carbon credits, limited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arbon investment opportun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s are about helping activities to get over hurdle r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house gases are one component of an integrated environmental management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 for conflicting policies – need to be clear about desired outcomes to align appropriate policy to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pdating Alberta’s Climate Chang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Specified Gas Emitters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environmental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beginning to broadly challenge the ‘social license to operat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of awareness is var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focus on large industrial footprints v.s. urban spra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serving as the poster child for this current green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ing the focus, perspectives and expectations for action – outcomes tied to greenhouse gas emission re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a greater focus on aspirational goals than real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willingness to act as ‘individuals’, but as ‘consumers’ still slow to accept that this is a shared respons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lberta’s GHG Emissions in the Canadian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52480" y="2449440"/>
          <a:ext cx="6432840" cy="36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449440"/>
                    <a:ext cx="643284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121200" y="2117880"/>
            <a:ext cx="174600" cy="2038320"/>
          </a:xfrm>
          <a:prstGeom prst="can">
            <a:avLst>
              <a:gd name="adj" fmla="val 3504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86080" y="3298680"/>
            <a:ext cx="174600" cy="603360"/>
          </a:xfrm>
          <a:prstGeom prst="can">
            <a:avLst>
              <a:gd name="adj" fmla="val 10726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3760" y="4029120"/>
            <a:ext cx="174600" cy="566640"/>
          </a:xfrm>
          <a:prstGeom prst="can">
            <a:avLst>
              <a:gd name="adj" fmla="val 10726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3040" y="4413240"/>
            <a:ext cx="174600" cy="192240"/>
          </a:xfrm>
          <a:prstGeom prst="can">
            <a:avLst>
              <a:gd name="adj" fmla="val 29564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1440" y="3728880"/>
            <a:ext cx="174600" cy="1892520"/>
          </a:xfrm>
          <a:prstGeom prst="can">
            <a:avLst>
              <a:gd name="adj" fmla="val 4699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37440" y="4565520"/>
            <a:ext cx="174600" cy="831960"/>
          </a:xfrm>
          <a:prstGeom prst="can">
            <a:avLst>
              <a:gd name="adj" fmla="val 10726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51440" y="2684520"/>
            <a:ext cx="174600" cy="92160"/>
          </a:xfrm>
          <a:prstGeom prst="can">
            <a:avLst>
              <a:gd name="adj" fmla="val 41379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51880" y="5538960"/>
            <a:ext cx="174600" cy="91800"/>
          </a:xfrm>
          <a:prstGeom prst="can">
            <a:avLst>
              <a:gd name="adj" fmla="val 36208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3480" y="5713560"/>
            <a:ext cx="174960" cy="182520"/>
          </a:xfrm>
          <a:prstGeom prst="can">
            <a:avLst>
              <a:gd name="adj" fmla="val 34782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08360" y="3365640"/>
            <a:ext cx="174600" cy="91800"/>
          </a:xfrm>
          <a:prstGeom prst="can">
            <a:avLst>
              <a:gd name="adj" fmla="val 41379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77000" y="5951520"/>
            <a:ext cx="174600" cy="201600"/>
          </a:xfrm>
          <a:prstGeom prst="can">
            <a:avLst>
              <a:gd name="adj" fmla="val 34782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78680" y="5591160"/>
            <a:ext cx="174600" cy="92160"/>
          </a:xfrm>
          <a:prstGeom prst="can">
            <a:avLst>
              <a:gd name="adj" fmla="val 41379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66440" y="19922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37880" y="3325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04680" y="26258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54200" y="323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38120" y="4154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62080" y="4430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91040" y="4726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19680" y="542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33800" y="5735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5120" y="5954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31000" y="5519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5880" y="4726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1440" y="4784760"/>
            <a:ext cx="174600" cy="831960"/>
          </a:xfrm>
          <a:prstGeom prst="can">
            <a:avLst>
              <a:gd name="adj" fmla="val 10726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6360" y="5622840"/>
            <a:ext cx="174600" cy="831960"/>
          </a:xfrm>
          <a:prstGeom prst="can">
            <a:avLst>
              <a:gd name="adj" fmla="val 10726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85240" y="4973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7320" y="580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0240" y="1393920"/>
            <a:ext cx="174600" cy="2787480"/>
          </a:xfrm>
          <a:prstGeom prst="can">
            <a:avLst>
              <a:gd name="adj" fmla="val 3870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3600" y="1620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9280" y="3841920"/>
            <a:ext cx="184320" cy="795240"/>
          </a:xfrm>
          <a:prstGeom prst="can">
            <a:avLst>
              <a:gd name="adj" fmla="val 10726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33640" y="3773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75080" y="3156120"/>
            <a:ext cx="174600" cy="804600"/>
          </a:xfrm>
          <a:prstGeom prst="can">
            <a:avLst>
              <a:gd name="adj" fmla="val 10726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04600" y="2868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37200" y="4146480"/>
            <a:ext cx="174600" cy="1535040"/>
          </a:xfrm>
          <a:prstGeom prst="can">
            <a:avLst>
              <a:gd name="adj" fmla="val 4550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3960" y="4154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08800" y="4651200"/>
            <a:ext cx="174600" cy="776520"/>
          </a:xfrm>
          <a:prstGeom prst="can">
            <a:avLst>
              <a:gd name="adj" fmla="val 10726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2800" y="4497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3240" y="4346640"/>
            <a:ext cx="174600" cy="218880"/>
          </a:xfrm>
          <a:prstGeom prst="can">
            <a:avLst>
              <a:gd name="adj" fmla="val 19564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27720" y="4130640"/>
            <a:ext cx="4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32480" y="5499000"/>
            <a:ext cx="174600" cy="438120"/>
          </a:xfrm>
          <a:prstGeom prst="can">
            <a:avLst>
              <a:gd name="adj" fmla="val 10726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9600" y="5354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19720" y="5792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66000" y="5927760"/>
            <a:ext cx="174600" cy="228600"/>
          </a:xfrm>
          <a:prstGeom prst="can">
            <a:avLst>
              <a:gd name="adj" fmla="val 27083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13680" y="5540400"/>
            <a:ext cx="174600" cy="92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04040" y="5230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11800" y="5253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05600" y="5492880"/>
            <a:ext cx="174600" cy="918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80080" y="3346560"/>
            <a:ext cx="174600" cy="918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4000" y="2625840"/>
            <a:ext cx="174960" cy="918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96960" y="23781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3080" y="29811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Alberta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31960"/>
            <a:ext cx="792468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shifts and the implementation of new technology are the key to making substantial emissions redu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instruments are needed to bridge the gap between current emissions and long-term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bertans must be part of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Where have we com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ing Action on Climate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ncial 50% GHG intensity/GDP target by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 thrusts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Government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Energy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Carbon Management/ Technology a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Renewable and Alternativ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Enhancing Carbon S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Change and Emissions Management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G regulation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tory reporting of GHGs by industry -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ity targets for large facilities  -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Updating the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Workshops and Stakeholder Discu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re for action, willingness to ‘contribut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tables and Expert Pa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strategic strengths and 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 the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the Plan (wi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s the need to articulate longer-term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s Alberta’s key reduction opportunity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s a contribution from industry and 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policies to encourage behaviors (e.g. rebate progra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potential approaches that focus on discouraging (e.g. increased electricity prices from new regulatory require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836280"/>
            <a:ext cx="87631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Unicode MS"/>
              </a:rPr>
              <a:t>Specified Gas Emitters 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36200"/>
            <a:ext cx="84582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87360" indent="-387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all facilities in Alberta that release over 100,000 tonnes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10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ies have been reporting sinc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10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 existing and new facilities in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10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 for 50% of Alberta’s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targets off of bas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10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/production=baseline inten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440" indent="-16884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emissions per barrel of 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10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% reduction off of baseline (adjusted targets for new faci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on large point-sources, including landfills, to improve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10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emissions for the same ‘outpu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Large Industrial Emitters Profile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</a:rPr>
              <a:t>(&gt;100,000 tonnes CO2e/y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836720"/>
          <a:ext cx="8173800" cy="456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36720"/>
                    <a:ext cx="817380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93960" y="6491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erta Reporting Program -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7:29:45Z</dcterms:created>
  <dc:creator>Lisa Toliver-Fox</dc:creator>
  <dc:description/>
  <dc:language>en-US</dc:language>
  <cp:lastModifiedBy>GoA</cp:lastModifiedBy>
  <dcterms:modified xsi:type="dcterms:W3CDTF">2007-11-02T21:46:59Z</dcterms:modified>
  <cp:revision>92</cp:revision>
  <dc:subject/>
  <dc:title>PowerPoint Presentation</dc:title>
</cp:coreProperties>
</file>