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7200"/>
            <a:ext cx="60199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285a5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285a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285a5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V  Treatment of GHG Costs/Credi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 of GHG Costs/Credits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JV Treatment of GHG Costs/Credits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Status Report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CAPP GHG JV Working Group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November 6, 2007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V Treatment of GHGs – Process next step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CAPP GHG JV Working Group meeting through November to draft proposal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Considering “short-term” letter plus future bulletin as compliance mechanisms mature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Organization reviews in December/January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Report in Q1, prior to first true-up deadline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V Treatment of GH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INPUT REQUIRED – Contact: keiren.ferris@shell.com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V Treatment of GH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Provincial regulation: effective July, 2007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Federal proposal: effective 2010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CAPP involvement: consultations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International Emissions Trading Agency conference: first look at JV issues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CAPP membership covers producers and facility owners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V Treatment of GH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Questions:  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How should operator-paid compliance costs be charged for JV purposes?  How should carbon credits be alloca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Response: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P GHG JV Work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of proposal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285a5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JVA, PASC, CAPL, CGP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V Treatment of GHGs – Current Situation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Alberta Climate Change Plan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ective July 1,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Federal regulatory Framework for Air Emissions being developed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s in 2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In the works: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C Energy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skatchewan Energy and Climate Change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V Treatment of GHGs – Alberta Plan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990033"/>
                </a:solidFill>
                <a:latin typeface="Tahoma"/>
              </a:rPr>
              <a:t>‘</a:t>
            </a:r>
            <a:r>
              <a:rPr b="1" lang="en-CA" sz="1800" spc="-1" strike="noStrike">
                <a:solidFill>
                  <a:srgbClr val="990033"/>
                </a:solidFill>
                <a:latin typeface="Tahoma"/>
              </a:rPr>
              <a:t>Existing facilities’ as of 2000: </a:t>
            </a:r>
            <a:endParaRPr b="1" lang="en-US" sz="18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baseline average intensity 2003-200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12% reduction from baseline starting July 1, 200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990033"/>
                </a:solidFill>
                <a:latin typeface="Tahoma"/>
              </a:rPr>
              <a:t>‘</a:t>
            </a:r>
            <a:r>
              <a:rPr b="1" lang="en-CA" sz="1800" spc="-1" strike="noStrike">
                <a:solidFill>
                  <a:srgbClr val="990033"/>
                </a:solidFill>
                <a:latin typeface="Tahoma"/>
              </a:rPr>
              <a:t>New facility’ 2001 or later: </a:t>
            </a:r>
            <a:endParaRPr b="1" lang="en-US" sz="18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year of operation becomes base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% reduction per year beginning year 4 until 12% reach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Tahoma"/>
              </a:rPr>
              <a:t>Compliance</a:t>
            </a:r>
            <a:endParaRPr b="1" lang="en-US" sz="18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ual reductions in GHG inten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offset cred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hnology fund ($15/tonne – unlimited acce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ance deadline March 31,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ahoma"/>
              </a:rPr>
              <a:t>Verification</a:t>
            </a:r>
            <a:endParaRPr b="1" lang="en-US" sz="18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line by Dec. 31, 200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review with repor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V Treatment of GHGs – Federal Plan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2010: 18% intensity reduction; 2% annual improvement thereafter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Goal: absolute 20% reduction from 2006 levels by 2020 and 60-70% reduction by 2050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Compliance: 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ual redu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ining access to Canadian Technology F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ission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igible offset cred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V Treatment of GHGs – Working Group Approach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Focus on Alberta with enough flexibility to accommodate future Federal program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Balance key stakeholder issues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Suite of equitable options for each compliance option and credit allocation method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Balance solutions against materiality and administrative burden.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Immediate approach for 2007, then longer-term approach for 2008 and beyond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Information bulletin approach instead of industry letter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V Treatment of GHGs – Key Stakeholder Issu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990033"/>
                </a:solidFill>
                <a:latin typeface="Tahoma"/>
              </a:rPr>
              <a:t>Operator responsible for “true-up”</a:t>
            </a:r>
            <a:endParaRPr b="1" lang="en-US" sz="20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990033"/>
                </a:solidFill>
                <a:latin typeface="Tahoma"/>
              </a:rPr>
              <a:t>Targets at facility level</a:t>
            </a:r>
            <a:endParaRPr b="1" lang="en-US" sz="20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990033"/>
                </a:solidFill>
                <a:latin typeface="Tahoma"/>
              </a:rPr>
              <a:t>How are charges/credits shared among facility operators, JV partners, custom processors?</a:t>
            </a:r>
            <a:endParaRPr b="1" lang="en-US" sz="20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990033"/>
                </a:solidFill>
                <a:latin typeface="Tahoma"/>
              </a:rPr>
              <a:t>Charges/credits measured against a baseline; what has changed vs. baseline?</a:t>
            </a:r>
            <a:endParaRPr b="1" lang="en-US" sz="2000" spc="-1" strike="noStrike">
              <a:solidFill>
                <a:srgbClr val="990033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990033"/>
                </a:solidFill>
                <a:latin typeface="Tahoma"/>
              </a:rPr>
              <a:t>Issues with compliance mechanisms:</a:t>
            </a:r>
            <a:endParaRPr b="1" lang="en-US" sz="20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hnology f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set cred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dits in ki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fer credits from another of the operator’s fac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dg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Materiality changes over time.</a:t>
            </a:r>
            <a:endParaRPr b="1" lang="en-US" sz="20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V Treatment of GHGs – What can you be doing now?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990033"/>
                </a:solidFill>
                <a:latin typeface="Tahoma"/>
              </a:rPr>
              <a:t>Operator: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audits by Dec. 31,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s to ow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rue lia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compliance mechani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 inclusion in royalty allowed 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Partners</a:t>
            </a: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rue liabilities based on estim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 inclusion in royalty allowed 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2:34Z</dcterms:created>
  <dc:creator>Registered User</dc:creator>
  <dc:description/>
  <dc:language>en-US</dc:language>
  <cp:lastModifiedBy>Registered User</cp:lastModifiedBy>
  <dcterms:modified xsi:type="dcterms:W3CDTF">2007-11-05T22:04:52Z</dcterms:modified>
  <cp:revision>8</cp:revision>
  <dc:subject/>
  <dc:title>Presentation # 16</dc:title>
</cp:coreProperties>
</file>